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2D2B4-D95C-43BB-97E6-44BAAD363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551C8-37D8-4BD1-9C92-4CAD0014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68C92-7FAE-43D6-AC6E-7D0055AA2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A6E2E-1238-4F44-B0DC-85193AF0E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4E01-35AC-44B5-88AD-C9923F43B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1106-6016-4D23-9844-FB6A84C0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1FB5-ECFD-49D7-ADAA-3A53D280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3AF7-F084-4505-ACEF-961FA4A4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3378-51FF-4777-9C2D-D43E5A59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EFCC-29F3-4756-86B9-9D512BA8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0A9A-CAAF-486A-96FB-715838B5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DE3DA-31AB-4BEB-9AE4-339D9AA4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625A-EFC0-4016-9097-E18809B6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6B23-2F45-487C-9AD5-6E07A507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EE3F-FDBC-4999-B963-1AADF67C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2100-63CB-4943-91C3-8F9CACEF8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D6FE-5E83-48FB-89B7-76C19F056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1F37B-6F99-48EB-ABD0-73FFBD0E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EDDD3-8067-473C-B7B4-116068A4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216C3-9E1C-433F-A02E-81716F40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9A3D6-95D4-473C-BEB9-8C2E7E5C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9395C-B678-4F98-A26A-6ECC3E3E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8E90F-63C6-475D-9349-7643933A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BBEAD-9FA8-406F-BF3B-A11912DB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D751-7593-46EC-B822-478B698849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AFE8-B119-42E7-92A6-AF00C38965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440" y="1828800"/>
            <a:ext cx="7162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etrolul mi</a:t>
            </a:r>
            <a:r>
              <a:rPr b="0" lang="ro-RO" sz="5000" spc="-1" strike="noStrike">
                <a:solidFill>
                  <a:srgbClr val="ffffff"/>
                </a:solidFill>
                <a:latin typeface="Arial"/>
              </a:rPr>
              <a:t>şcă omenire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-  motoare termi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3049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lasa a X a A s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533412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* Citiţi întrebările care vor urma, scrieţi răspunsurile voastre în coloanele corespunzătoare ale tabeluluicare urmează iar când terminaţi, faceţi o sinteză a acestora, apoi completaţi tabelul pe calculato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sunt combustibilii fosil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ce sunt folosiţi combustibili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uteţi da exemple de motoare term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um funcţionează motorul term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e ce depinde funcţionarea unui motor term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âte tipuri de motoare termice exist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este cel mai mare defect al motoarelor termi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038480" y="457200"/>
            <a:ext cx="1498680" cy="1123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2057400" cy="1147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934320" y="380880"/>
            <a:ext cx="14983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Vă rog să desenaţi pe foaie tabelul de mai j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371600"/>
          <a:ext cx="8229600" cy="4114440"/>
        </p:xfrm>
        <a:graphic>
          <a:graphicData uri="http://schemas.openxmlformats.org/drawingml/2006/table">
            <a:tbl>
              <a:tblPr/>
              <a:tblGrid>
                <a:gridCol w="838080"/>
                <a:gridCol w="2514600"/>
                <a:gridCol w="2590920"/>
                <a:gridCol w="228600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sunt combustibilii fosi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e sunt folosi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ţi combustibil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ul de la maşină şi motoret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 funcţionează motor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ce depinde funcţionarea motorulu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âte feluri exist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defecte au motoare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457200" y="5791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a ultima coloană veţi răspunde la sfârşitul proiectulu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ontinu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371600"/>
          <a:ext cx="8229600" cy="4114440"/>
        </p:xfrm>
        <a:graphic>
          <a:graphicData uri="http://schemas.openxmlformats.org/drawingml/2006/table">
            <a:tbl>
              <a:tblPr/>
              <a:tblGrid>
                <a:gridCol w="838080"/>
                <a:gridCol w="2514600"/>
                <a:gridCol w="2590920"/>
                <a:gridCol w="228600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457200" y="5791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a ultima coloană veţi răspunde la sfârşitul proiectulu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1:36:28Z</dcterms:created>
  <dc:creator>elev</dc:creator>
  <dc:description/>
  <dc:language>en-US</dc:language>
  <cp:lastModifiedBy>user</cp:lastModifiedBy>
  <dcterms:modified xsi:type="dcterms:W3CDTF">2010-06-03T07:50:45Z</dcterms:modified>
  <cp:revision>6</cp:revision>
  <dc:subject/>
  <dc:title>Petrolul mişcă omenirea</dc:title>
</cp:coreProperties>
</file>